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7771-C4E0-42EA-B98C-CCC228AEB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5C5C-50AF-4E0A-9203-D64F3B86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A8CA7-5B3C-4910-8970-BED48914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8CDAB-C28D-45F3-B0C3-80C44B15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9F43C-FA4E-44B0-890F-CA4B753C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FE3A0-59E6-4C7B-9DEF-6DEF37CD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18ADA-FAE8-4BAA-9709-78ADC832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C5E07-4039-4501-9356-F698153B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D5336-7C98-4FA1-95BA-7D882996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983D0-6955-462B-A1EC-4117F199F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E5BEE7-6BDB-46D2-BEB5-59597BE68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5D38-E32F-41DF-9C37-FEAED703F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20D0-89F9-41A5-9C3A-3409FA845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DF8F-7FF9-45DF-A525-BFBAC508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1D6F-E376-412C-A9CD-0A39A2E5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5845-C425-40EF-9DFD-FE7AA27F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CACD-16C5-4805-AB25-275982DD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D3D4-6CE6-44C7-8EBA-5246916D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94F6-9ABA-474D-904A-4D706679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C999-939D-434D-B618-8B35ADB1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CD79-E540-4F1E-B7B2-4E0C3EDC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A9A9-410E-4705-96F2-63A213EA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2569-5774-4EEF-82A5-184A313E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A815-1391-4744-968A-36C16EDC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8B41-186A-4514-82A3-86EF9E140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95C4-3F31-4223-BB77-43E4164A1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937D50-961B-44E9-A152-895467953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F4707E-91FD-4A0E-BF30-277F8ECD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21BBC7-5166-405D-89FB-95F379BA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124FDB-1513-4DAD-9599-B2DB1AF0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918860-0703-4FAF-BD58-5025A247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DAF9-E4F8-4CFC-B913-47D972A1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2EC408-F4EB-472A-B493-6EEFC791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50BFE7-EEBB-442E-B182-D6FEA1AB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6E57D3-CD6C-4AFD-A35C-048D33D9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C5581E-D0B2-435B-9A39-B0EA8943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98E8EA-F3F4-4D4A-BE4E-A29AFE3C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87D626-AB39-4E36-AB3E-05D6858D9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00623C-579F-48B4-9994-8EA81EBDF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3DC486-3013-4569-8C65-26B2DD8F5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9897CB-4FDF-4723-B2E3-0604CC75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3EA844-9702-47F3-9D1B-9CDF6F24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9006-45E1-4CEF-B3E4-1EC01ED0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866349-FFA0-4516-B7EB-C30319E4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566B3A-82BB-4E02-A32E-B993B710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94AFFB-5FCD-4D54-B031-362BF5D0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B5263B-C70B-4D6A-891C-E0DAA12B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9E4FB6-DCEE-4FC5-9DA0-D6A36DA4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FE8EFE-E01C-48DA-98A6-6AAA8D68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DBFA5D-C819-4161-A70B-3100E7B3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00714A-8734-42A5-A5F5-BB1352AD5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1BCB90-5361-4BF4-B604-5D0A7582A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5DA769-CFCA-48B2-98B9-F8A909E2A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BC87-5086-4A2F-ADE1-B38D39D8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76F8E6-04CE-448C-8105-74A2A380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A48676-5365-433D-9787-CAE95363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FB3994-879E-47B6-BF72-18087390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9A4B1F-1CB9-4E5F-81F4-3875DE93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F8B055-91B6-464A-871C-69F4EDD3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1D5E55-6CB5-4A93-AB5B-065D1375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807567-5D52-4905-A154-3C408103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79EF4B-430F-4FC3-98B4-AF3FB7CA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D5BEF2-B8FE-4DBD-A7B6-CFEEBEC2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4B59DF-DAC8-4D9B-AFA5-1CC2C7F90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E39E-6E33-426B-B101-C414A121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3BBF5B-D2C7-4728-8EB8-285018076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4A536-B148-49AB-B505-441BDA3E4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716A6-BE1B-463D-BF4D-AFC5963C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9E09E-0873-468D-B6A0-01585210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0CFFE-C760-40EF-BB89-7AA58885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BAA43-942E-4C58-802C-CDF126F9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CC211-E646-4758-B521-49FBA6C0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2D4C3-8A30-492B-9264-C7974DC0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DAB64-E1EC-41EA-BD3E-025FC72D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8E009-EFE3-40B0-A870-7E695B39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705C-A340-41C3-B637-0327F4E6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4C26C-6DB9-40E0-A4AE-4474E912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FBCC7-E43E-4CA5-BAEF-EE9AB3DC1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8F981-C6A5-417C-A58F-CDFCB625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DB46CB-3FE3-4A0B-B9F3-D5015704C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0B9CB8-BF48-4028-A8F1-83F4D57D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275520-6EBE-4CB5-BDC4-B51EE8A4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89CC0F-ED1B-41A7-BE68-D5556B9B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B8D088-9F40-4575-8F50-53399450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F891EC-B186-4DDC-9456-13961D80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E16EDC-232C-411B-936F-19E0E231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D1BA-EA52-4A8A-9057-320D3FC5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96AF56-08EE-4D4B-8179-9323F664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A7B17E-BD26-4255-B4EB-50045323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D4A658-C761-48C9-A080-BA984621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DFE6A5-D8CF-4991-BC37-6FA2E0C8A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CA9F5F-F9D7-4BC9-BF29-ABE162F51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3717B-CBBE-461A-B087-B577973E5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FC12D-7801-4DB8-8786-173F5DCF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42E2F-02D7-4598-A70D-1F37E83F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FE9F5-7794-4A86-8522-863C9466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9318E-30CD-4CDA-951F-A1EF2091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04E3-1FA3-4FA4-9E23-6153214B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70172-FE85-44B5-A46E-869DED7D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0541D-766A-43FC-8329-533E4384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67F9C-41BF-4D99-B2FC-1D53C8B1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DB4FA-4CE4-4888-88FC-7D685E28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1BC93-9E54-4124-9E38-E70714B1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1EB88-7D08-4E50-9DE6-F79E24E72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69FC8-DA52-472B-8A8A-26AED2571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BF578A-7812-490F-A6F2-730851FE6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29174-687B-4702-A7BE-2E0FD021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DC133-A378-4B23-A9BC-8862F986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A633-25AE-4077-93FB-317C3C0FA98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25D5-7795-4CA3-A444-783F9378FF11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D3FA-46F9-4A7D-8417-C64A21E008B7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04B8-6A32-46A1-811B-52586A0D3A6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41DE-46EE-4145-850F-F4F524C99FE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C5A1-8052-44C9-9218-0AC93B2C1178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AEEC-B668-42DE-912E-681AB50F1900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3334-CF45-4B33-B613-59DD53C2D95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C372-97BE-43C5-81B2-5F801A62D17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520" y="22860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MORPHOLOGY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2616120" y="3352680"/>
            <a:ext cx="401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4404"/>
                </a:solidFill>
                <a:latin typeface="Tw Cen MT"/>
              </a:rPr>
              <a:t>Word Classes and Affixes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3505320" y="6019920"/>
            <a:ext cx="54100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READ 7370:  Linguistics for Edu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Dr. Melissa C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Subway"/>
              </a:rPr>
              <a:t>English Inflectional Morphemes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514240" y="1828440"/>
            <a:ext cx="6248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Nou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–’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possessiv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Verb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 –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third person singular presen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ed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past tens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en 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past participl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ing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progressiv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Adjectiv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er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comparativ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est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04404"/>
                </a:solidFill>
                <a:latin typeface="Arial"/>
              </a:rPr>
              <a:t>superlativ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5" name="Picture 4" descr="HOST1"/>
          <p:cNvPicPr/>
          <p:nvPr/>
        </p:nvPicPr>
        <p:blipFill>
          <a:blip r:embed="rId1"/>
          <a:stretch/>
        </p:blipFill>
        <p:spPr>
          <a:xfrm>
            <a:off x="515880" y="2463840"/>
            <a:ext cx="207504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68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w Cen MT"/>
              </a:rPr>
              <a:t>Some examples of English Derivational Morpheme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066680" y="182844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300"/>
              </a:spcBef>
              <a:spcAft>
                <a:spcPts val="3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-ic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    : Noun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 Adj 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; alcohol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 alcoholic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300"/>
              </a:spcBef>
              <a:spcAft>
                <a:spcPts val="3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-ance  : Verb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 Noun 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; clear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 clearanc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300"/>
              </a:spcBef>
              <a:spcAft>
                <a:spcPts val="3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-ly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    : Adj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 Adv     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; exact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 exactl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300"/>
              </a:spcBef>
              <a:spcAft>
                <a:spcPts val="3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-ity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    : Adj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 Noun  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; active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 activit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300"/>
              </a:spcBef>
              <a:spcAft>
                <a:spcPts val="3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-able   : Verb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 Adj   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; read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 readabl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spcAft>
                <a:spcPts val="601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-ship   : Noun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 Noun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; friend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 friendship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spcAft>
                <a:spcPts val="601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re-      : Verb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 Verb 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; cover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 recov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spcAft>
                <a:spcPts val="601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in-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    : Adj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 Adj     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; definite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 indefinit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Describe the italic affixes: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365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99"/>
                </a:solidFill>
                <a:latin typeface="Century Gothic"/>
              </a:rPr>
              <a:t> </a:t>
            </a:r>
            <a:r>
              <a:rPr b="1" i="1" lang="en-US" sz="2900" spc="-1" strike="noStrike">
                <a:solidFill>
                  <a:srgbClr val="000099"/>
                </a:solidFill>
                <a:latin typeface="Century Gothic"/>
              </a:rPr>
              <a:t>im</a:t>
            </a:r>
            <a:r>
              <a:rPr b="0" lang="en-US" sz="2900" spc="-1" strike="noStrike">
                <a:solidFill>
                  <a:srgbClr val="000099"/>
                </a:solidFill>
                <a:latin typeface="Century Gothic"/>
              </a:rPr>
              <a:t>possib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99"/>
                </a:solidFill>
                <a:latin typeface="Century Gothic"/>
              </a:rPr>
              <a:t>terroriz</a:t>
            </a:r>
            <a:r>
              <a:rPr b="1" i="1" lang="en-US" sz="2900" spc="-1" strike="noStrike">
                <a:solidFill>
                  <a:srgbClr val="000099"/>
                </a:solidFill>
                <a:latin typeface="Century Gothic"/>
              </a:rPr>
              <a:t>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99"/>
                </a:solidFill>
                <a:latin typeface="Century Gothic"/>
              </a:rPr>
              <a:t>terror</a:t>
            </a:r>
            <a:r>
              <a:rPr b="1" i="1" lang="en-US" sz="2900" spc="-1" strike="noStrike">
                <a:solidFill>
                  <a:srgbClr val="000099"/>
                </a:solidFill>
                <a:latin typeface="Century Gothic"/>
              </a:rPr>
              <a:t>iz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99"/>
                </a:solidFill>
                <a:latin typeface="Century Gothic"/>
              </a:rPr>
              <a:t>desk</a:t>
            </a:r>
            <a:r>
              <a:rPr b="1" i="1" lang="en-US" sz="2900" spc="-1" strike="noStrike">
                <a:solidFill>
                  <a:srgbClr val="000099"/>
                </a:solidFill>
                <a:latin typeface="Century Gothic"/>
              </a:rPr>
              <a:t>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99"/>
                </a:solidFill>
                <a:latin typeface="Century Gothic"/>
              </a:rPr>
              <a:t> </a:t>
            </a:r>
            <a:r>
              <a:rPr b="1" i="1" lang="en-US" sz="2900" spc="-1" strike="noStrike">
                <a:solidFill>
                  <a:srgbClr val="000099"/>
                </a:solidFill>
                <a:latin typeface="Century Gothic"/>
              </a:rPr>
              <a:t>dis</a:t>
            </a:r>
            <a:r>
              <a:rPr b="0" lang="en-US" sz="2900" spc="-1" strike="noStrike">
                <a:solidFill>
                  <a:srgbClr val="000099"/>
                </a:solidFill>
                <a:latin typeface="Century Gothic"/>
              </a:rPr>
              <a:t>lik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99"/>
                </a:solidFill>
                <a:latin typeface="Century Gothic"/>
              </a:rPr>
              <a:t>human</a:t>
            </a:r>
            <a:r>
              <a:rPr b="1" i="1" lang="en-US" sz="2900" spc="-1" strike="noStrike">
                <a:solidFill>
                  <a:srgbClr val="000099"/>
                </a:solidFill>
                <a:latin typeface="Century Gothic"/>
              </a:rPr>
              <a:t>i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99"/>
                </a:solidFill>
                <a:latin typeface="Century Gothic"/>
              </a:rPr>
              <a:t>fast</a:t>
            </a:r>
            <a:r>
              <a:rPr b="1" i="1" lang="en-US" sz="2900" spc="-1" strike="noStrike">
                <a:solidFill>
                  <a:srgbClr val="000099"/>
                </a:solidFill>
                <a:latin typeface="Century Gothic"/>
              </a:rPr>
              <a:t>e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0" name="Picture 5" descr="RADIO1"/>
          <p:cNvPicPr/>
          <p:nvPr/>
        </p:nvPicPr>
        <p:blipFill>
          <a:blip r:embed="rId1"/>
          <a:stretch/>
        </p:blipFill>
        <p:spPr>
          <a:xfrm>
            <a:off x="5486400" y="1371600"/>
            <a:ext cx="1797120" cy="411480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4"/>
          <p:cNvSpPr/>
          <p:nvPr/>
        </p:nvSpPr>
        <p:spPr>
          <a:xfrm>
            <a:off x="4114800" y="1600200"/>
            <a:ext cx="4419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rivational pref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flectional suff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rivational suff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flectional suff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rivational pref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rivational suff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flectional suff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990720" y="30492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Describe the italic affix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990720" y="1447920"/>
            <a:ext cx="3429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90000"/>
              <a:buFont typeface="Century Gothic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entury Gothic"/>
              </a:rPr>
              <a:t> </a:t>
            </a:r>
            <a:r>
              <a:rPr b="1" i="1" lang="en-US" sz="3200" spc="-1" strike="noStrike">
                <a:solidFill>
                  <a:srgbClr val="000099"/>
                </a:solidFill>
                <a:latin typeface="Century Gothic"/>
              </a:rPr>
              <a:t>pre</a:t>
            </a:r>
            <a:r>
              <a:rPr b="0" lang="en-US" sz="3200" spc="-1" strike="noStrike">
                <a:solidFill>
                  <a:srgbClr val="000099"/>
                </a:solidFill>
                <a:latin typeface="Century Gothic"/>
              </a:rPr>
              <a:t>m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90000"/>
              <a:buFont typeface="Century Gothic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entury Gothic"/>
              </a:rPr>
              <a:t> </a:t>
            </a:r>
            <a:r>
              <a:rPr b="1" i="1" lang="en-US" sz="3200" spc="-1" strike="noStrike">
                <a:solidFill>
                  <a:srgbClr val="000099"/>
                </a:solidFill>
                <a:latin typeface="Century Gothic"/>
              </a:rPr>
              <a:t>un</a:t>
            </a:r>
            <a:r>
              <a:rPr b="0" lang="en-US" sz="3200" spc="-1" strike="noStrike">
                <a:solidFill>
                  <a:srgbClr val="000099"/>
                </a:solidFill>
                <a:latin typeface="Century Gothic"/>
              </a:rPr>
              <a:t>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90000"/>
              <a:buFont typeface="Century Gothic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entury Gothic"/>
              </a:rPr>
              <a:t>dark</a:t>
            </a:r>
            <a:r>
              <a:rPr b="1" i="1" lang="en-US" sz="3200" spc="-1" strike="noStrike">
                <a:solidFill>
                  <a:srgbClr val="000099"/>
                </a:solidFill>
                <a:latin typeface="Century Gothic"/>
              </a:rPr>
              <a:t>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90000"/>
              <a:buFont typeface="Century Gothic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entury Gothic"/>
              </a:rPr>
              <a:t>fall</a:t>
            </a:r>
            <a:r>
              <a:rPr b="1" i="1" lang="en-US" sz="3200" spc="-1" strike="noStrike">
                <a:solidFill>
                  <a:srgbClr val="000099"/>
                </a:solidFill>
                <a:latin typeface="Century Gothic"/>
              </a:rPr>
              <a:t>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90000"/>
              <a:buFont typeface="Century Gothic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entury Gothic"/>
              </a:rPr>
              <a:t>ox</a:t>
            </a:r>
            <a:r>
              <a:rPr b="1" i="1" lang="en-US" sz="3200" spc="-1" strike="noStrike">
                <a:solidFill>
                  <a:srgbClr val="000099"/>
                </a:solidFill>
                <a:latin typeface="Century Gothic"/>
              </a:rPr>
              <a:t>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90000"/>
              <a:buFont typeface="Century Gothic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entury Gothic"/>
              </a:rPr>
              <a:t>fast</a:t>
            </a:r>
            <a:r>
              <a:rPr b="1" i="1" lang="en-US" sz="3200" spc="-1" strike="noStrike">
                <a:solidFill>
                  <a:srgbClr val="000099"/>
                </a:solidFill>
                <a:latin typeface="Century Gothic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90000"/>
              <a:buFont typeface="Century Gothic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entury Gothic"/>
              </a:rPr>
              <a:t>lectur</a:t>
            </a:r>
            <a:r>
              <a:rPr b="1" i="1" lang="en-US" sz="3200" spc="-1" strike="noStrike">
                <a:solidFill>
                  <a:srgbClr val="000099"/>
                </a:solidFill>
                <a:latin typeface="Century Gothic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4267080" y="1447920"/>
            <a:ext cx="4419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rivational pref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rivational pref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rivational suff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flectional suff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flectional suff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flectional suff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rivational suff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5" descr="JUGGLE"/>
          <p:cNvPicPr/>
          <p:nvPr/>
        </p:nvPicPr>
        <p:blipFill>
          <a:blip r:embed="rId1"/>
          <a:stretch/>
        </p:blipFill>
        <p:spPr>
          <a:xfrm>
            <a:off x="5181480" y="1371600"/>
            <a:ext cx="2159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w Cen MT"/>
              </a:rPr>
              <a:t>Main Divisions of Word Classes </a:t>
            </a:r>
            <a:br>
              <a:rPr sz="3600"/>
            </a:br>
            <a:r>
              <a:rPr b="0" lang="en-US" sz="3600" spc="-1" strike="noStrike">
                <a:solidFill>
                  <a:srgbClr val="a50021"/>
                </a:solidFill>
                <a:latin typeface="Tw Cen MT"/>
              </a:rPr>
              <a:t>(Parts of Speech):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51920" y="2362320"/>
            <a:ext cx="4038840" cy="36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Tw Cen MT"/>
              </a:rPr>
              <a:t>Content Word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Tw Cen MT"/>
              </a:rPr>
              <a:t>Function Word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4724280" y="1523880"/>
            <a:ext cx="2895840" cy="228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Nou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Verb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Ad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Adverb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6"/>
          <p:cNvSpPr/>
          <p:nvPr/>
        </p:nvSpPr>
        <p:spPr>
          <a:xfrm>
            <a:off x="4800600" y="4191120"/>
            <a:ext cx="3200400" cy="2361960"/>
          </a:xfrm>
          <a:prstGeom prst="rect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Comic Sans MS"/>
              </a:rPr>
              <a:t>Conj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Comic Sans MS"/>
              </a:rPr>
              <a:t>Pre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Comic Sans MS"/>
              </a:rPr>
              <a:t>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Comic Sans MS"/>
              </a:rPr>
              <a:t>Pronou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7"/>
          <p:cNvSpPr/>
          <p:nvPr/>
        </p:nvSpPr>
        <p:spPr>
          <a:xfrm>
            <a:off x="4038480" y="2286000"/>
            <a:ext cx="609840" cy="914400"/>
          </a:xfrm>
          <a:prstGeom prst="rightArrow">
            <a:avLst>
              <a:gd name="adj1" fmla="val 46528"/>
              <a:gd name="adj2" fmla="val 49403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8"/>
          <p:cNvSpPr/>
          <p:nvPr/>
        </p:nvSpPr>
        <p:spPr>
          <a:xfrm>
            <a:off x="4114800" y="4952880"/>
            <a:ext cx="609480" cy="914400"/>
          </a:xfrm>
          <a:prstGeom prst="rightArrow">
            <a:avLst>
              <a:gd name="adj1" fmla="val 46528"/>
              <a:gd name="adj2" fmla="val 49403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dc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dc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dc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dc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440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440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440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4" dur="1" fill="hold"/>
                                  <p:tgtEl>
                                    <p:spTgt spid="4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440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w Cen MT"/>
              </a:rPr>
              <a:t>Morpheme: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Tw Cen MT"/>
              </a:rPr>
              <a:t>The minimal unit of meaning 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04560" y="2133720"/>
            <a:ext cx="5715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72880">
              <a:spcBef>
                <a:spcPts val="550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w Cen MT"/>
              </a:rPr>
              <a:t>Free morpheme: a single morpheme that constitutes a word and can stand alone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w Cen MT"/>
              </a:rPr>
              <a:t>Bound morpheme: a morpheme that must be attached to another morpheme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5" name="Picture 4" descr="j0299171"/>
          <p:cNvPicPr/>
          <p:nvPr/>
        </p:nvPicPr>
        <p:blipFill>
          <a:blip r:embed="rId1"/>
          <a:stretch/>
        </p:blipFill>
        <p:spPr>
          <a:xfrm>
            <a:off x="6108840" y="2286000"/>
            <a:ext cx="21970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6870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w Cen MT"/>
              </a:rPr>
              <a:t>Example of Bound/Free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Tw Cen MT"/>
              </a:rPr>
              <a:t>Morphem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85800" y="2590560"/>
            <a:ext cx="76960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99"/>
                </a:solidFill>
                <a:latin typeface="Tw Cen MT"/>
              </a:rPr>
              <a:t>Retroactive = retro + act + iv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99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99"/>
                </a:solidFill>
                <a:latin typeface="Tw Cen MT"/>
              </a:rPr>
              <a:t>Free morpheme = ac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99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99"/>
                </a:solidFill>
                <a:latin typeface="Tw Cen MT"/>
              </a:rPr>
              <a:t>Bound morpheme = retro-, -iv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01440" y="6091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w Cen MT"/>
              </a:rPr>
              <a:t>English Affixes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Tw Cen MT"/>
              </a:rPr>
              <a:t>(based on the position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761760" y="2882880"/>
            <a:ext cx="33764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w Cen MT"/>
              </a:rPr>
              <a:t>Prefix: An affix that occurs before a morphem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5029200" y="2895480"/>
            <a:ext cx="35053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w Cen MT"/>
              </a:rPr>
              <a:t>Suffix: An affix that occurs after a morp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5"/>
          <p:cNvSpPr/>
          <p:nvPr/>
        </p:nvSpPr>
        <p:spPr>
          <a:xfrm>
            <a:off x="4495680" y="2666880"/>
            <a:ext cx="0" cy="3124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440" y="601200"/>
            <a:ext cx="687060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w Cen MT"/>
              </a:rPr>
              <a:t>English Prefix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762120" y="1904760"/>
            <a:ext cx="7696080" cy="31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Examples of Negative Prefix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un-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non-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dis-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a-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Examples of size and degree prefix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mini-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sub-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over-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super-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6870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w Cen MT"/>
              </a:rPr>
              <a:t>English Suffix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6840" y="1828800"/>
            <a:ext cx="3429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Class preserving suffixati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-er </a:t>
            </a:r>
            <a:r>
              <a:rPr b="0" lang="en-US" sz="29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 lectur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-ian</a:t>
            </a:r>
            <a:r>
              <a:rPr b="0" lang="en-US" sz="29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 libraria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-ist </a:t>
            </a:r>
            <a:r>
              <a:rPr b="0" lang="en-US" sz="29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 scienti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-let </a:t>
            </a:r>
            <a:r>
              <a:rPr b="0" lang="en-US" sz="29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 pigle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3962520" y="1828800"/>
            <a:ext cx="4800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Class changing suffixation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Verb </a:t>
            </a:r>
            <a:r>
              <a:rPr b="0" lang="en-US" sz="29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 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   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perform</a:t>
            </a:r>
            <a:r>
              <a:rPr b="0" lang="en-US" sz="29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 performan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Adjective </a:t>
            </a:r>
            <a:r>
              <a:rPr b="0" lang="en-US" sz="29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 Adverb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  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nice </a:t>
            </a:r>
            <a:r>
              <a:rPr b="0" lang="en-US" sz="29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 nicel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Adjective </a:t>
            </a:r>
            <a:r>
              <a:rPr b="0" lang="en-US" sz="29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 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  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active </a:t>
            </a:r>
            <a:r>
              <a:rPr b="0" lang="en-US" sz="29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660066"/>
                </a:solidFill>
                <a:latin typeface="Tw Cen MT"/>
              </a:rPr>
              <a:t> activi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8"/>
          <p:cNvSpPr/>
          <p:nvPr/>
        </p:nvSpPr>
        <p:spPr>
          <a:xfrm>
            <a:off x="3886200" y="1828800"/>
            <a:ext cx="0" cy="380988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2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20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20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20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1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10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10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10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1000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1000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870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w Cen MT"/>
              </a:rPr>
              <a:t>Affixes</a:t>
            </a:r>
            <a:br>
              <a:rPr sz="4800"/>
            </a:br>
            <a:r>
              <a:rPr b="0" lang="en-US" sz="4800" spc="-1" strike="noStrike">
                <a:solidFill>
                  <a:srgbClr val="000099"/>
                </a:solidFill>
                <a:latin typeface="Tw Cen MT"/>
              </a:rPr>
              <a:t>(based on the function)</a:t>
            </a:r>
            <a:endParaRPr b="0" lang="en-US" sz="4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066320" y="3352680"/>
            <a:ext cx="7086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w Cen MT"/>
              </a:rPr>
              <a:t>Inflections vs. Derivations 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800000"/>
                </a:solidFill>
                <a:latin typeface="Tw Cen MT"/>
              </a:rPr>
              <a:t>Definition</a:t>
            </a:r>
            <a:endParaRPr b="0" lang="en-US" sz="5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038120" y="2034720"/>
            <a:ext cx="43434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2480" indent="-312480">
              <a:lnSpc>
                <a:spcPct val="80000"/>
              </a:lnSpc>
              <a:spcBef>
                <a:spcPts val="1749"/>
              </a:spcBef>
              <a:buClr>
                <a:srgbClr val="800000"/>
              </a:buClr>
              <a:buSzPct val="9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w Cen MT"/>
              </a:rPr>
              <a:t>Derivational morpheme: deriving (creating) a new word with a new meaning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1749"/>
              </a:spcBef>
              <a:buClr>
                <a:srgbClr val="800000"/>
              </a:buClr>
              <a:buSzPct val="9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w Cen MT"/>
              </a:rPr>
              <a:t>Inflectional morpheme: changing the form of a word because of the rules of syntax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2" name="Picture 4" descr="DIRECT1"/>
          <p:cNvPicPr/>
          <p:nvPr/>
        </p:nvPicPr>
        <p:blipFill>
          <a:blip r:embed="rId1"/>
          <a:stretch/>
        </p:blipFill>
        <p:spPr>
          <a:xfrm>
            <a:off x="1066680" y="1967040"/>
            <a:ext cx="27990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3:47:15Z</dcterms:created>
  <dc:creator>Deny A. Kwary</dc:creator>
  <dc:description/>
  <dc:language>en-US</dc:language>
  <cp:lastModifiedBy>Bill Comer</cp:lastModifiedBy>
  <dcterms:modified xsi:type="dcterms:W3CDTF">2010-06-21T00:15:16Z</dcterms:modified>
  <cp:revision>14</cp:revision>
  <dc:subject/>
  <dc:title>Morphology</dc:title>
</cp:coreProperties>
</file>